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A9275-A572-4860-86B7-4341D158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E3AA4-FC93-4CD2-8B36-C1888240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B99CD-BFB1-4C58-84FA-3072BBA5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A9DAC-4A98-4C50-8420-D2315878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ACEB-F19A-4009-A884-4849ECD6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375C-E439-4857-A0A8-49428ECC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2412-55FA-4D5E-87B3-B662BE9A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F46B-855E-4A0E-89C7-A6751620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25E9-34A2-4658-A7F3-BA6EF165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FDB3-5D94-435F-9C38-98BCC3F7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B53C-4654-4B5C-B145-E60A1C69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9F626-583F-4164-BC74-EF8679D3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B7EA-5B79-45E6-AB7A-FDB122C1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5DB1-52EB-41EB-8039-CAB9BAC5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A1B7-7CDA-4A55-A3EF-CB4EF720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8426-63EB-4F6A-9E3E-82DEC954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DBA7-62DD-41D3-BA03-6326711E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61655-D8BF-40ED-8C11-93FF5A83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13068-9E53-47C7-9272-C3046E49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E1A3-8337-4AF3-A1E8-9D280D60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0FD66-86F1-4F79-9315-0E4531A3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CD2F7-7843-417F-BB69-4228F8CB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F0B2C-85B5-49F7-9D33-B0DFFE4B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9395C-5F94-427D-92CC-7B7AFCE0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54A5-5B46-4C64-8672-E7F8F0B6C3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4EE4-6B58-475C-932A-F7A06FA482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te tipuri de motoare termice exist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fos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ul de la dac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este şi cum funcţionează motorul ter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e depinde funcţionarea motor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te feluri de motoare exis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defecte au motoar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re combustib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se modifică parametrii de stare la gaz când e încălzit în cilindrul cu piston mob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ă se poate face lucru mecanic cu cilindrul cu piston mobil umplut cu gaz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user</cp:lastModifiedBy>
  <dcterms:modified xsi:type="dcterms:W3CDTF">2010-06-04T06:08:55Z</dcterms:modified>
  <cp:revision>8</cp:revision>
  <dc:subject/>
  <dc:title>Petrolul mişcă omenirea</dc:title>
</cp:coreProperties>
</file>